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1DF-99F0-4D08-A999-965F2F8D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047-3C63-4DF7-B138-30D4F6A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4DB-1951-4388-BDAA-29B668BB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418-1FC4-4055-AF06-98F5E5C1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0777-0535-4B75-8B03-D45ED12E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1BD-513C-4DCD-B971-0C66CB7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0390-2450-4EF1-A5B7-2D5E965E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94A-0821-4037-893C-EBC31911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BAF9-7B61-4BAA-9480-48887C76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1271-86AD-40E1-AAEB-4D1BBB4E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6824-2F05-4361-90F2-530FBBC0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8DB-2F7B-4091-BB05-16582A86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2D5F-BF42-45DC-9CC4-7E76FD0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2B6C-6107-4EA5-BE7A-2840CCE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BBC2-697A-428B-9EB0-8B1EFB30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88ED-7FFC-4BDB-BAC3-940AFF54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6BA2-0F25-4BF9-86CE-A922C4A9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2EF-12B4-4154-8E5F-217886E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A70-F52C-479A-BD48-1EC7EEF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A1B-7C5D-4BF4-9FD6-344E71C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355-A285-4C28-953E-5596865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EC6-3426-4BEE-9074-E718E3D3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5E8-A683-4969-93E6-A4FB67CA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890-C80A-4C2F-AE48-46C0E62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EFE-19D3-48C5-AD77-E20BAF6783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B4A-F46D-4423-8013-57CDA74298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520120" cy="2703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mic Sans MS"/>
              </a:rPr>
              <a:t>Квадратные уравнения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mic Sans MS"/>
              </a:rPr>
              <a:t>или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mic Sans MS"/>
              </a:rPr>
              <a:t>«Чем больше знаешь, тем быстрей считаешь»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еорема Вие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+ рх +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-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 •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11280" y="2205000"/>
          <a:ext cx="7561080" cy="3006720"/>
        </p:xfrm>
        <a:graphic>
          <a:graphicData uri="http://schemas.openxmlformats.org/drawingml/2006/table">
            <a:tbl>
              <a:tblPr/>
              <a:tblGrid>
                <a:gridCol w="2011320"/>
                <a:gridCol w="596880"/>
                <a:gridCol w="395280"/>
                <a:gridCol w="512640"/>
                <a:gridCol w="585720"/>
                <a:gridCol w="587520"/>
                <a:gridCol w="878040"/>
                <a:gridCol w="1100160"/>
                <a:gridCol w="89352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х</a:t>
                      </a:r>
                      <a:r>
                        <a:rPr b="0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х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х+21=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WordArt 291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поняли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6" name="Group 296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17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Text Box 295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спомнить все!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1484280"/>
            <a:ext cx="8280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й паре предлагается ответить на следующие вопросы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Определение квадратного уравнения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иды квадратных уравнени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Что называется дискриминантом квадратного уравнения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От чего зависит количество корней квадратного уравнения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Каковы формулы для нахождения корней квадратного уравнения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Формулировка теоремы Виет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2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и на квадратные уравнения встречаются в труд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йских математиков уже с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нашей эры. Вот од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задач индийского математик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Бхаска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зьянок резвых ст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асть поевши, развлека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х в квадрате часть восьм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ляне забавля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двенадцать по лианам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ли прыгать, повиса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ж было обезьянок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скажите, в этой ста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547640" y="170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WordArt 9"/>
          <p:cNvSpPr txBox="1"/>
          <p:nvPr/>
        </p:nvSpPr>
        <p:spPr>
          <a:xfrm>
            <a:off x="611280" y="260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исьмо из прошлого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8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Эрудит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21142" t="32259" r="17576" b="23900"/>
          <a:stretch/>
        </p:blipFill>
        <p:spPr>
          <a:xfrm>
            <a:off x="395280" y="1415880"/>
            <a:ext cx="799308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6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33" name="Tree"/>
            <p:cNvSpPr/>
            <p:nvPr/>
          </p:nvSpPr>
          <p:spPr>
            <a:xfrm>
              <a:off x="5796000" y="5877000"/>
              <a:ext cx="934920" cy="7300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1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971640" y="2997360"/>
            <a:ext cx="72007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Приобретение навыков самостоятельной работы с большим объемом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умений увидеть проблему и наметить пути ее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умений составлять алгоритмы для способов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выбора рационального  способа решения квадратных  уравн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ормирование умений решать квадратное уравнение не одним способ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праве  ли мы считать любое открытие в науке чудесным проявлением  неограниченных возможностей человеческого познания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вадратные уравнения: случайное явление или необходимая закономерность в  истории развития алгебры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ет ли квадратное уравнение стать  математической моделью практической задач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сколько далеко простираются возможности квадратных уравнений в математи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х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+вх+с =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бодный чл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" name="AutoShape 5"/>
          <p:cNvCxnSpPr>
            <a:stCxn id="159" idx="1"/>
          </p:cNvCxnSpPr>
          <p:nvPr/>
        </p:nvCxnSpPr>
        <p:spPr>
          <a:xfrm>
            <a:off x="685800" y="3657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AutoShape 17"/>
          <p:cNvSpPr/>
          <p:nvPr/>
        </p:nvSpPr>
        <p:spPr>
          <a:xfrm>
            <a:off x="2916360" y="162864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4140360" y="1700280"/>
            <a:ext cx="288720" cy="1584360"/>
          </a:xfrm>
          <a:prstGeom prst="downArrow">
            <a:avLst>
              <a:gd name="adj1" fmla="val 50000"/>
              <a:gd name="adj2" fmla="val 1371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5148360" y="1700280"/>
            <a:ext cx="288720" cy="2016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42"/>
          <p:cNvSpPr/>
          <p:nvPr/>
        </p:nvSpPr>
        <p:spPr>
          <a:xfrm>
            <a:off x="250920" y="3933720"/>
            <a:ext cx="331308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ИДЫ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2521080" y="262404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2521080" y="451476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763560" y="4005360"/>
                <a:ext cx="1952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Oval 6"/>
          <p:cNvSpPr/>
          <p:nvPr/>
        </p:nvSpPr>
        <p:spPr>
          <a:xfrm>
            <a:off x="3492360" y="1341360"/>
            <a:ext cx="2737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755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Object 12"/>
          <p:cNvGraphicFramePr/>
          <p:nvPr/>
        </p:nvGraphicFramePr>
        <p:xfrm>
          <a:off x="3635280" y="1700280"/>
          <a:ext cx="239580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2395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7164360" y="5877000"/>
            <a:ext cx="1441440" cy="649080"/>
            <a:chOff x="7164360" y="5877000"/>
            <a:chExt cx="1441440" cy="649080"/>
          </a:xfrm>
        </p:grpSpPr>
        <p:sp>
          <p:nvSpPr>
            <p:cNvPr id="176" name="Oval 35"/>
            <p:cNvSpPr/>
            <p:nvPr/>
          </p:nvSpPr>
          <p:spPr>
            <a:xfrm>
              <a:off x="7164360" y="5877000"/>
              <a:ext cx="1441440" cy="649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16"/>
                <p:cNvSpPr txBox="1"/>
                <p:nvPr/>
              </p:nvSpPr>
              <p:spPr>
                <a:xfrm>
                  <a:off x="7453080" y="6021360"/>
                  <a:ext cx="935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41"/>
          <p:cNvGrpSpPr/>
          <p:nvPr/>
        </p:nvGrpSpPr>
        <p:grpSpPr>
          <a:xfrm>
            <a:off x="5003640" y="5229360"/>
            <a:ext cx="2016000" cy="1080720"/>
            <a:chOff x="5003640" y="5229360"/>
            <a:chExt cx="2016000" cy="1080720"/>
          </a:xfrm>
        </p:grpSpPr>
        <p:sp>
          <p:nvSpPr>
            <p:cNvPr id="179" name="Oval 36"/>
            <p:cNvSpPr/>
            <p:nvPr/>
          </p:nvSpPr>
          <p:spPr>
            <a:xfrm>
              <a:off x="5003640" y="5229360"/>
              <a:ext cx="2016000" cy="1080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17"/>
                <p:cNvSpPr txBox="1"/>
                <p:nvPr/>
              </p:nvSpPr>
              <p:spPr>
                <a:xfrm>
                  <a:off x="5153400" y="5554080"/>
                  <a:ext cx="1642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" name="Object 19"/>
              <p:cNvSpPr txBox="1"/>
              <p:nvPr/>
            </p:nvSpPr>
            <p:spPr>
              <a:xfrm>
                <a:off x="5508720" y="3573360"/>
                <a:ext cx="306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Group 39"/>
          <p:cNvGrpSpPr/>
          <p:nvPr/>
        </p:nvGrpSpPr>
        <p:grpSpPr>
          <a:xfrm>
            <a:off x="6443640" y="4365720"/>
            <a:ext cx="2088720" cy="1008000"/>
            <a:chOff x="6443640" y="4365720"/>
            <a:chExt cx="2088720" cy="1008000"/>
          </a:xfrm>
        </p:grpSpPr>
        <p:sp>
          <p:nvSpPr>
            <p:cNvPr id="183" name="Oval 37"/>
            <p:cNvSpPr/>
            <p:nvPr/>
          </p:nvSpPr>
          <p:spPr>
            <a:xfrm>
              <a:off x="6443640" y="4365720"/>
              <a:ext cx="2088720" cy="1008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20"/>
                <p:cNvSpPr txBox="1"/>
                <p:nvPr/>
              </p:nvSpPr>
              <p:spPr>
                <a:xfrm>
                  <a:off x="6766200" y="4653000"/>
                  <a:ext cx="1527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AutoShape 21">
            <a:hlinkClick r:id="" action="ppaction://hlinkshowjump?jump=nextslide"/>
            <a:hlinkClick r:id="rId3"/>
          </p:cNvPr>
          <p:cNvSpPr/>
          <p:nvPr/>
        </p:nvSpPr>
        <p:spPr>
          <a:xfrm>
            <a:off x="324000" y="33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1308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27"/>
          <p:cNvGraphicFramePr/>
          <p:nvPr/>
        </p:nvGraphicFramePr>
        <p:xfrm>
          <a:off x="468360" y="4365720"/>
          <a:ext cx="3024000" cy="76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2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365720"/>
                    <a:ext cx="3024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30"/>
          <p:cNvSpPr/>
          <p:nvPr/>
        </p:nvSpPr>
        <p:spPr>
          <a:xfrm>
            <a:off x="2627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н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324000" y="3429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веден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651672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пол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1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Существует 10 способов решения кадратных уравнений, мы рассмотрим с Вами самые осно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деление квадратного двучлен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 с помощью дискримина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ема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ема, обратная теореме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рафический способ реш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0" y="3068640"/>
            <a:ext cx="4284720" cy="216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65080" y="32130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826920" y="4149720"/>
          <a:ext cx="23749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149720"/>
                    <a:ext cx="23749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611280" y="3373560"/>
                <a:ext cx="3240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Group 25"/>
          <p:cNvGrpSpPr/>
          <p:nvPr/>
        </p:nvGrpSpPr>
        <p:grpSpPr>
          <a:xfrm>
            <a:off x="5580000" y="3429000"/>
            <a:ext cx="3097440" cy="1846440"/>
            <a:chOff x="5580000" y="3429000"/>
            <a:chExt cx="3097440" cy="1846440"/>
          </a:xfrm>
        </p:grpSpPr>
        <p:sp>
          <p:nvSpPr>
            <p:cNvPr id="200" name="Oval 9"/>
            <p:cNvSpPr/>
            <p:nvPr/>
          </p:nvSpPr>
          <p:spPr>
            <a:xfrm>
              <a:off x="5580000" y="3502080"/>
              <a:ext cx="3097440" cy="1773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6804000" y="342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0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12"/>
                <p:cNvSpPr txBox="1"/>
                <p:nvPr/>
              </p:nvSpPr>
              <p:spPr>
                <a:xfrm>
                  <a:off x="5867280" y="3646440"/>
                  <a:ext cx="237492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Group 19"/>
          <p:cNvGrpSpPr/>
          <p:nvPr/>
        </p:nvGrpSpPr>
        <p:grpSpPr>
          <a:xfrm>
            <a:off x="3419640" y="5345280"/>
            <a:ext cx="2571120" cy="1512720"/>
            <a:chOff x="3419640" y="5345280"/>
            <a:chExt cx="2571120" cy="1512720"/>
          </a:xfrm>
        </p:grpSpPr>
        <p:sp>
          <p:nvSpPr>
            <p:cNvPr id="204" name="Oval 16"/>
            <p:cNvSpPr/>
            <p:nvPr/>
          </p:nvSpPr>
          <p:spPr>
            <a:xfrm>
              <a:off x="3419640" y="5345280"/>
              <a:ext cx="2571120" cy="1512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17"/>
            <p:cNvSpPr/>
            <p:nvPr/>
          </p:nvSpPr>
          <p:spPr>
            <a:xfrm>
              <a:off x="4284360" y="5598000"/>
              <a:ext cx="103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&lt;0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3733200" y="610200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 корней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Text Box 20"/>
          <p:cNvSpPr/>
          <p:nvPr/>
        </p:nvSpPr>
        <p:spPr>
          <a:xfrm>
            <a:off x="111600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шение квадратного уравнения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411280" y="765000"/>
            <a:ext cx="3529080" cy="1727280"/>
            <a:chOff x="2411280" y="765000"/>
            <a:chExt cx="3529080" cy="1727280"/>
          </a:xfrm>
        </p:grpSpPr>
        <p:sp>
          <p:nvSpPr>
            <p:cNvPr id="209" name="Oval 22"/>
            <p:cNvSpPr/>
            <p:nvPr/>
          </p:nvSpPr>
          <p:spPr>
            <a:xfrm>
              <a:off x="2411280" y="765000"/>
              <a:ext cx="3529080" cy="172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10" name="Object 23"/>
            <p:cNvGraphicFramePr/>
            <p:nvPr/>
          </p:nvGraphicFramePr>
          <p:xfrm>
            <a:off x="2555640" y="1197000"/>
            <a:ext cx="309564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97000"/>
                      <a:ext cx="309564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7:47:00Z</dcterms:created>
  <dc:creator>user</dc:creator>
  <dc:description/>
  <dc:language>en-US</dc:language>
  <cp:lastModifiedBy>26544</cp:lastModifiedBy>
  <dcterms:modified xsi:type="dcterms:W3CDTF">2010-06-07T11:54:08Z</dcterms:modified>
  <cp:revision>45</cp:revision>
  <dc:subject/>
  <dc:title>Квадратные уравнения</dc:title>
</cp:coreProperties>
</file>